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A8F0-BAA1-4126-AEF4-18A4829AFA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8F8-2906-474E-BF10-D4CDA3B7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182-ECC2-45E1-B7EF-424E6447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464-A23C-4B8C-9AFF-62E4A5AE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332-A9CB-42AE-B4D3-E8408569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B95-AE0C-4AAB-8BF9-E7508F83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502-D02B-429C-B15C-44130069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D2F-F8EC-4FF0-8DC8-8891CE34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321-B620-4FAB-BADB-4BB100AC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9F3-1E04-4D97-8174-EB01490F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FB2-427B-4CF1-8175-A7527CA3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CD4-CCAC-4EDA-9308-DA2A5016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D5E9-3797-4A81-ABB8-19AC978F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4757-1ABD-4E10-99F4-5ABEDA1CA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lcc.edu/" TargetMode="External"/><Relationship Id="rId2" Type="http://schemas.openxmlformats.org/officeDocument/2006/relationships/hyperlink" Target="http://www.mathxtc.com/" TargetMode="External"/><Relationship Id="rId3" Type="http://schemas.openxmlformats.org/officeDocument/2006/relationships/hyperlink" Target="http://www.ststephens.wa.edu.a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09480" y="1523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 Black"/>
              </a:rPr>
              <a:t>Real numb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29528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 of multiplication distributes over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754200" y="1905120"/>
                <a:ext cx="3814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4462560" y="2590920"/>
                <a:ext cx="4516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6"/>
          <p:cNvSpPr/>
          <p:nvPr/>
        </p:nvSpPr>
        <p:spPr>
          <a:xfrm>
            <a:off x="533520" y="3352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95120" y="4495680"/>
                <a:ext cx="4602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4233960" y="5486400"/>
                <a:ext cx="4559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reeform 10"/>
          <p:cNvSpPr/>
          <p:nvPr/>
        </p:nvSpPr>
        <p:spPr>
          <a:xfrm>
            <a:off x="4724280" y="2425680"/>
            <a:ext cx="457200" cy="241200"/>
          </a:xfrm>
          <a:custGeom>
            <a:avLst/>
            <a:gdLst>
              <a:gd name="textAreaLeft" fmla="*/ 0 w 457200"/>
              <a:gd name="textAreaRight" fmla="*/ 457560 w 457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88" h="152">
                <a:moveTo>
                  <a:pt x="0" y="104"/>
                </a:moveTo>
                <a:cubicBezTo>
                  <a:pt x="48" y="52"/>
                  <a:pt x="96" y="0"/>
                  <a:pt x="144" y="8"/>
                </a:cubicBezTo>
                <a:cubicBezTo>
                  <a:pt x="192" y="16"/>
                  <a:pt x="272" y="128"/>
                  <a:pt x="288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00600" y="2197080"/>
            <a:ext cx="1143000" cy="469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20" h="296">
                <a:moveTo>
                  <a:pt x="0" y="248"/>
                </a:moveTo>
                <a:cubicBezTo>
                  <a:pt x="108" y="124"/>
                  <a:pt x="216" y="0"/>
                  <a:pt x="336" y="8"/>
                </a:cubicBezTo>
                <a:cubicBezTo>
                  <a:pt x="456" y="16"/>
                  <a:pt x="588" y="156"/>
                  <a:pt x="72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4724280" y="5092560"/>
            <a:ext cx="1067040" cy="470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672" h="296">
                <a:moveTo>
                  <a:pt x="672" y="248"/>
                </a:moveTo>
                <a:cubicBezTo>
                  <a:pt x="536" y="124"/>
                  <a:pt x="400" y="0"/>
                  <a:pt x="288" y="8"/>
                </a:cubicBezTo>
                <a:cubicBezTo>
                  <a:pt x="176" y="16"/>
                  <a:pt x="88" y="156"/>
                  <a:pt x="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410080" y="52578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0" h="144">
                <a:moveTo>
                  <a:pt x="240" y="144"/>
                </a:moveTo>
                <a:cubicBezTo>
                  <a:pt x="188" y="72"/>
                  <a:pt x="136" y="0"/>
                  <a:pt x="96" y="0"/>
                </a:cubicBezTo>
                <a:cubicBezTo>
                  <a:pt x="56" y="0"/>
                  <a:pt x="28" y="72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66688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les of Signs</a:t>
            </a:r>
            <a:endParaRPr b="0" lang="en-US" sz="2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57200" y="137160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152280" y="205740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times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133720" y="23623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4876920" y="144792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572000" y="2133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times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629400" y="2362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533520" y="3505320"/>
                <a:ext cx="2255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12"/>
          <p:cNvSpPr/>
          <p:nvPr/>
        </p:nvSpPr>
        <p:spPr>
          <a:xfrm>
            <a:off x="228600" y="4191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negative of a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2096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28600" y="228600"/>
            <a:ext cx="845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UTION:  Remember that the value f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/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ould also be positive or negative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6"/>
              <p:cNvSpPr txBox="1"/>
              <p:nvPr/>
            </p:nvSpPr>
            <p:spPr>
              <a:xfrm>
                <a:off x="4495680" y="3352680"/>
                <a:ext cx="3926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17"/>
          <p:cNvSpPr/>
          <p:nvPr/>
        </p:nvSpPr>
        <p:spPr>
          <a:xfrm>
            <a:off x="3962520" y="47242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divided by a negat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638680" y="46483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7467480" y="4648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380880" y="5334120"/>
                <a:ext cx="17542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21"/>
          <p:cNvSpPr/>
          <p:nvPr/>
        </p:nvSpPr>
        <p:spPr>
          <a:xfrm>
            <a:off x="2209680" y="55627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267080" y="61722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609480" y="91440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ww.slc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</a:t>
            </a: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ww.mathxtc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nd for it to be modified to suit the Western Australian Mathematics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ww.ststephens.w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MathXTCSignature"/>
          <p:cNvPicPr/>
          <p:nvPr/>
        </p:nvPicPr>
        <p:blipFill>
          <a:blip r:embed="rId4"/>
          <a:stretch/>
        </p:blipFill>
        <p:spPr>
          <a:xfrm>
            <a:off x="762120" y="3962520"/>
            <a:ext cx="1371600" cy="3952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371600" y="2133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3520" y="380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were asked to count, the numbers you’d say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nting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These numbers can be expressed using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800600" y="2057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are also called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ural numb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412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34290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include 0 we have the se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le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9528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0880" y="5638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the opposites of the whole numbers and you have the set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0"/>
          <p:cNvGrpSpPr/>
          <p:nvPr/>
        </p:nvGrpSpPr>
        <p:grpSpPr>
          <a:xfrm>
            <a:off x="304920" y="1600200"/>
            <a:ext cx="6248160" cy="3886200"/>
            <a:chOff x="304920" y="1600200"/>
            <a:chExt cx="6248160" cy="3886200"/>
          </a:xfrm>
        </p:grpSpPr>
        <p:sp>
          <p:nvSpPr>
            <p:cNvPr id="59" name="Oval 15"/>
            <p:cNvSpPr/>
            <p:nvPr/>
          </p:nvSpPr>
          <p:spPr>
            <a:xfrm>
              <a:off x="304920" y="1600200"/>
              <a:ext cx="6248160" cy="3886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2133720" y="167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ional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4"/>
          <p:cNvSpPr/>
          <p:nvPr/>
        </p:nvSpPr>
        <p:spPr>
          <a:xfrm>
            <a:off x="685800" y="228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ole numbers are a subset of integers and counting numbers are a subset of whole numb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685800" y="2209680"/>
            <a:ext cx="5410080" cy="2819520"/>
            <a:chOff x="685800" y="2209680"/>
            <a:chExt cx="5410080" cy="2819520"/>
          </a:xfrm>
        </p:grpSpPr>
        <p:sp>
          <p:nvSpPr>
            <p:cNvPr id="63" name="Oval 5"/>
            <p:cNvSpPr/>
            <p:nvPr/>
          </p:nvSpPr>
          <p:spPr>
            <a:xfrm>
              <a:off x="68580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90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1143000" y="3048120"/>
            <a:ext cx="4419720" cy="1676160"/>
            <a:chOff x="1143000" y="3048120"/>
            <a:chExt cx="4419720" cy="1676160"/>
          </a:xfrm>
        </p:grpSpPr>
        <p:sp>
          <p:nvSpPr>
            <p:cNvPr id="66" name="Oval 7"/>
            <p:cNvSpPr/>
            <p:nvPr/>
          </p:nvSpPr>
          <p:spPr>
            <a:xfrm>
              <a:off x="1143000" y="3048120"/>
              <a:ext cx="441972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220968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1523880" y="3581280"/>
            <a:ext cx="3810240" cy="990720"/>
            <a:chOff x="1523880" y="3581280"/>
            <a:chExt cx="3810240" cy="990720"/>
          </a:xfrm>
        </p:grpSpPr>
        <p:sp>
          <p:nvSpPr>
            <p:cNvPr id="69" name="Oval 9"/>
            <p:cNvSpPr/>
            <p:nvPr/>
          </p:nvSpPr>
          <p:spPr>
            <a:xfrm>
              <a:off x="1523880" y="3581280"/>
              <a:ext cx="358164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2590920" y="365760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express a new set of numbers as the quotient of two integers, we have the se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705720" y="36576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is means to divide one integer by another or “make a frac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010280" y="5638680"/>
            <a:ext cx="1371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67480" y="5105520"/>
            <a:ext cx="7632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4"/>
          <p:cNvSpPr/>
          <p:nvPr/>
        </p:nvSpPr>
        <p:spPr>
          <a:xfrm>
            <a:off x="6019920" y="1523880"/>
            <a:ext cx="2590560" cy="388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457200" y="1523880"/>
            <a:ext cx="556272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9810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re are numbers that cannot be expressed as the quotient of two integers.  These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r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533520" y="2209680"/>
            <a:ext cx="5410080" cy="2819520"/>
            <a:chOff x="533520" y="2209680"/>
            <a:chExt cx="5410080" cy="2819520"/>
          </a:xfrm>
        </p:grpSpPr>
        <p:sp>
          <p:nvSpPr>
            <p:cNvPr id="81" name="Oval 7"/>
            <p:cNvSpPr/>
            <p:nvPr/>
          </p:nvSpPr>
          <p:spPr>
            <a:xfrm>
              <a:off x="53352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43864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9"/>
          <p:cNvGrpSpPr/>
          <p:nvPr/>
        </p:nvGrpSpPr>
        <p:grpSpPr>
          <a:xfrm>
            <a:off x="990720" y="3048120"/>
            <a:ext cx="4419360" cy="1676160"/>
            <a:chOff x="990720" y="3048120"/>
            <a:chExt cx="4419360" cy="1676160"/>
          </a:xfrm>
        </p:grpSpPr>
        <p:sp>
          <p:nvSpPr>
            <p:cNvPr id="84" name="Oval 10"/>
            <p:cNvSpPr/>
            <p:nvPr/>
          </p:nvSpPr>
          <p:spPr>
            <a:xfrm>
              <a:off x="990720" y="3048120"/>
              <a:ext cx="441936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2057040" y="312408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371600" y="3581280"/>
            <a:ext cx="3809520" cy="990720"/>
            <a:chOff x="1371600" y="3581280"/>
            <a:chExt cx="3809520" cy="990720"/>
          </a:xfrm>
        </p:grpSpPr>
        <p:sp>
          <p:nvSpPr>
            <p:cNvPr id="87" name="Oval 13"/>
            <p:cNvSpPr/>
            <p:nvPr/>
          </p:nvSpPr>
          <p:spPr>
            <a:xfrm>
              <a:off x="1371600" y="3581280"/>
              <a:ext cx="358128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>
              <a:off x="2438280" y="3657600"/>
              <a:ext cx="274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6324480" y="4114800"/>
                <a:ext cx="7304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0"/>
              <p:cNvSpPr txBox="1"/>
              <p:nvPr/>
            </p:nvSpPr>
            <p:spPr>
              <a:xfrm>
                <a:off x="7772400" y="2133720"/>
                <a:ext cx="563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25"/>
          <p:cNvSpPr/>
          <p:nvPr/>
        </p:nvSpPr>
        <p:spPr>
          <a:xfrm>
            <a:off x="6324480" y="27432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33520" y="5715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rational numbers combined with the irrational numbers make up the set o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1523880"/>
            <a:ext cx="8153280" cy="38862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4267080" y="11430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REAL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ng English to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828800"/>
          <a:ext cx="6019920" cy="3746520"/>
        </p:xfrm>
        <a:graphic>
          <a:graphicData uri="http://schemas.openxmlformats.org/drawingml/2006/table">
            <a:tbl>
              <a:tblPr/>
              <a:tblGrid>
                <a:gridCol w="6019920"/>
              </a:tblGrid>
              <a:tr h="68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duc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quotien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96"/>
          <p:cNvSpPr/>
          <p:nvPr/>
        </p:nvSpPr>
        <p:spPr>
          <a:xfrm>
            <a:off x="6400800" y="4908600"/>
            <a:ext cx="1600200" cy="66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2"/>
          <p:cNvSpPr/>
          <p:nvPr/>
        </p:nvSpPr>
        <p:spPr>
          <a:xfrm>
            <a:off x="6400800" y="3200400"/>
            <a:ext cx="1600200" cy="6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0"/>
          <p:cNvSpPr/>
          <p:nvPr/>
        </p:nvSpPr>
        <p:spPr>
          <a:xfrm>
            <a:off x="6400800" y="2514600"/>
            <a:ext cx="16002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6400800" y="1828800"/>
            <a:ext cx="1600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8"/>
          <p:cNvSpPr/>
          <p:nvPr/>
        </p:nvSpPr>
        <p:spPr>
          <a:xfrm>
            <a:off x="6400800" y="1828800"/>
            <a:ext cx="1600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9"/>
          <p:cNvSpPr/>
          <p:nvPr/>
        </p:nvSpPr>
        <p:spPr>
          <a:xfrm>
            <a:off x="640080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0"/>
          <p:cNvSpPr/>
          <p:nvPr/>
        </p:nvSpPr>
        <p:spPr>
          <a:xfrm>
            <a:off x="640080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1"/>
          <p:cNvSpPr/>
          <p:nvPr/>
        </p:nvSpPr>
        <p:spPr>
          <a:xfrm>
            <a:off x="6400800" y="38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2"/>
          <p:cNvSpPr/>
          <p:nvPr/>
        </p:nvSpPr>
        <p:spPr>
          <a:xfrm>
            <a:off x="6400800" y="4908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3"/>
          <p:cNvSpPr/>
          <p:nvPr/>
        </p:nvSpPr>
        <p:spPr>
          <a:xfrm flipV="1">
            <a:off x="6400800" y="5590800"/>
            <a:ext cx="1596960" cy="3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4"/>
          <p:cNvSpPr/>
          <p:nvPr/>
        </p:nvSpPr>
        <p:spPr>
          <a:xfrm>
            <a:off x="64008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5"/>
          <p:cNvSpPr/>
          <p:nvPr/>
        </p:nvSpPr>
        <p:spPr>
          <a:xfrm>
            <a:off x="80010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5"/>
          <p:cNvGrpSpPr/>
          <p:nvPr/>
        </p:nvGrpSpPr>
        <p:grpSpPr>
          <a:xfrm>
            <a:off x="6427800" y="3830760"/>
            <a:ext cx="1562040" cy="1080720"/>
            <a:chOff x="6427800" y="3830760"/>
            <a:chExt cx="1562040" cy="1080720"/>
          </a:xfrm>
        </p:grpSpPr>
        <p:grpSp>
          <p:nvGrpSpPr>
            <p:cNvPr id="111" name="Group 134"/>
            <p:cNvGrpSpPr/>
            <p:nvPr/>
          </p:nvGrpSpPr>
          <p:grpSpPr>
            <a:xfrm>
              <a:off x="6427800" y="3830760"/>
              <a:ext cx="1562040" cy="1080720"/>
              <a:chOff x="6427800" y="3830760"/>
              <a:chExt cx="1562040" cy="1080720"/>
            </a:xfrm>
          </p:grpSpPr>
          <p:grpSp>
            <p:nvGrpSpPr>
              <p:cNvPr id="112" name="Group 133"/>
              <p:cNvGrpSpPr/>
              <p:nvPr/>
            </p:nvGrpSpPr>
            <p:grpSpPr>
              <a:xfrm>
                <a:off x="6427800" y="3830760"/>
                <a:ext cx="1562040" cy="1080720"/>
                <a:chOff x="6427800" y="3830760"/>
                <a:chExt cx="1562040" cy="1080720"/>
              </a:xfrm>
            </p:grpSpPr>
            <p:sp>
              <p:nvSpPr>
                <p:cNvPr id="113" name="Rectangle 94"/>
                <p:cNvSpPr/>
                <p:nvPr/>
              </p:nvSpPr>
              <p:spPr>
                <a:xfrm>
                  <a:off x="6427800" y="3891600"/>
                  <a:ext cx="1562040" cy="101988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8"/>
                <p:cNvSpPr/>
                <p:nvPr/>
              </p:nvSpPr>
              <p:spPr>
                <a:xfrm>
                  <a:off x="7022520" y="3830760"/>
                  <a:ext cx="39204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31"/>
              <p:cNvSpPr/>
              <p:nvPr/>
            </p:nvSpPr>
            <p:spPr>
              <a:xfrm>
                <a:off x="7115040" y="4408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32"/>
              <p:cNvSpPr/>
              <p:nvPr/>
            </p:nvSpPr>
            <p:spPr>
              <a:xfrm>
                <a:off x="7111800" y="3857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130"/>
            <p:cNvSpPr/>
            <p:nvPr/>
          </p:nvSpPr>
          <p:spPr>
            <a:xfrm>
              <a:off x="7088040" y="4357080"/>
              <a:ext cx="25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0880" y="1295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524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 rot="19734600">
            <a:off x="19054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19734600">
            <a:off x="25912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 rot="19734600">
            <a:off x="35056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19734600">
            <a:off x="44200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9734600">
            <a:off x="5181840" y="342864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 rot="19734600">
            <a:off x="6172560" y="35049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6680" y="2666880"/>
            <a:ext cx="6705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143000" y="2514600"/>
            <a:ext cx="640080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Arial"/>
              </a:rPr>
              <a:t>Apply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66680" y="251460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Complete multiplication and divis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066680" y="259092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cc"/>
                </a:solidFill>
                <a:latin typeface="Arial"/>
              </a:rPr>
              <a:t>Complete addition and subtract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447920" y="2133720"/>
                <a:ext cx="6186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95280" y="30492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rackets – combine thes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23880" y="2286000"/>
                <a:ext cx="60865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0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219320" y="30492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dices – apply the indice 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048120" y="838080"/>
            <a:ext cx="6094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1219320" y="2438280"/>
                <a:ext cx="64594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914400" y="304920"/>
            <a:ext cx="693432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multiplication and divis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2819160" y="838080"/>
            <a:ext cx="6858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809880" y="762120"/>
            <a:ext cx="914400" cy="14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066680" y="2514600"/>
                <a:ext cx="6256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20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90720" y="22860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addition and subtract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2"/>
              <p:cNvSpPr txBox="1"/>
              <p:nvPr/>
            </p:nvSpPr>
            <p:spPr>
              <a:xfrm>
                <a:off x="2209680" y="243828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3"/>
              <p:cNvSpPr txBox="1"/>
              <p:nvPr/>
            </p:nvSpPr>
            <p:spPr>
              <a:xfrm>
                <a:off x="1379520" y="3962520"/>
                <a:ext cx="61880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MUT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commut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838080" y="2286000"/>
                <a:ext cx="2762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029200" y="2362320"/>
                <a:ext cx="267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8"/>
          <p:cNvSpPr/>
          <p:nvPr/>
        </p:nvSpPr>
        <p:spPr>
          <a:xfrm>
            <a:off x="533520" y="32767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commute” or trade the term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925560" y="4343400"/>
                <a:ext cx="2587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5040360" y="4343400"/>
                <a:ext cx="2498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11"/>
          <p:cNvSpPr/>
          <p:nvPr/>
        </p:nvSpPr>
        <p:spPr>
          <a:xfrm>
            <a:off x="533520" y="53341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commute” or trade the factor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SOCI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80880" y="1905120"/>
                <a:ext cx="4867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4267080" y="2590920"/>
                <a:ext cx="4648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Text Box 6"/>
          <p:cNvSpPr/>
          <p:nvPr/>
        </p:nvSpPr>
        <p:spPr>
          <a:xfrm>
            <a:off x="533520" y="3276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associate” and add any terms first and then add the other term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380880" y="4114800"/>
                <a:ext cx="4516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4114800" y="4800600"/>
                <a:ext cx="447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Text Box 9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assoc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3:01:19Z</dcterms:created>
  <dc:creator>haidersh</dc:creator>
  <dc:description/>
  <dc:language>en-US</dc:language>
  <cp:lastModifiedBy>LEGION</cp:lastModifiedBy>
  <dcterms:modified xsi:type="dcterms:W3CDTF">2017-07-06T06:39:13Z</dcterms:modified>
  <cp:revision>68</cp:revision>
  <dc:subject/>
  <dc:title>Slide 1</dc:title>
</cp:coreProperties>
</file>